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6172496-343C-479A-9E95-1B2FBBF710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buhvaćena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tokom 2007 i 2008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o 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na Gora    3.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8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56000" y="5013360"/>
          <a:ext cx="3456000" cy="26856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185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bija                          Alban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na Gora                  India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ama                      Madaga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173400" y="465300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85.  m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981000"/>
          <a:ext cx="8496000" cy="3527280"/>
        </p:xfrm>
        <a:graphic>
          <a:graphicData uri="http://schemas.openxmlformats.org/drawingml/2006/table">
            <a:tbl>
              <a:tblPr/>
              <a:tblGrid>
                <a:gridCol w="792000"/>
                <a:gridCol w="1295280"/>
                <a:gridCol w="893880"/>
                <a:gridCol w="658800"/>
                <a:gridCol w="676440"/>
                <a:gridCol w="672840"/>
                <a:gridCol w="674640"/>
                <a:gridCol w="744840"/>
                <a:gridCol w="718920"/>
                <a:gridCol w="1368360"/>
              </a:tblGrid>
              <a:tr h="120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o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or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vat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sr-Latn-CS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edon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sr-Latn-CS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bija (SC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3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na G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sr-Latn-CS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sr-Latn-CS" sz="1600" spc="-1" strike="noStrike">
                          <a:solidFill>
                            <a:srgbClr val="a11d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cija SCG 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6160" y="2676600"/>
          <a:ext cx="378144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676600"/>
                    <a:ext cx="378144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724280" y="1733400"/>
          <a:ext cx="3810240" cy="17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733400"/>
                    <a:ext cx="3810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11280" y="1886040"/>
          <a:ext cx="7923240" cy="3968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886040"/>
                    <a:ext cx="792324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: Očekivan veći pomak na listi, ali se percepcija sporo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: Napravljen novi pomak – približavanje realnom stanju stv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200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ercepcija o korupciji u Srbiji slična onoj u okolnim zemljama – napredak je ili veoma spor ili ga 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 20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sustvo monitoringa sprovođenja Strategije za borbu protiv korupcije, usvojene 2005, dovodi do lutanja i spore realizacije držav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orni procesi usporili zakonodavnu reformu, a nije iskorišćen njihov potencijal i pored toga što je borba protiv korupcije stalno među priorite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voljno iskorišćene prilike da se evropske integracije iskoriste kao zamajac antikorupcijskih refo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 20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dobrog opravdanja za nesprovođenje usvojenih antikorupcijskih zakona – odsustvo političke volje glavni raz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antikorupcijski propisi i institucije samo stvaraju, a ne omogući se da funkcionišu u praksi, ne može se očekivati bitan po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ni organi još uvek bez dovoljnog podstreka, ovlašćenja i sredstava za efikasnije otkrivanje i procesuiranje koruptivnih krivičnih d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 se popraviti ambijent za poslovanje kroz garantovanje pravne sigurnosti, efikasne sudske  zaštite i smanjenje prilike da birokratija iznuđuje m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3 različitih istraživanja i studija, koje je sprovelo 11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8 - Najbolji i naj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j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16000" y="1341360"/>
          <a:ext cx="7128000" cy="2600280"/>
        </p:xfrm>
        <a:graphic>
          <a:graphicData uri="http://schemas.openxmlformats.org/drawingml/2006/table">
            <a:tbl>
              <a:tblPr/>
              <a:tblGrid>
                <a:gridCol w="1747800"/>
                <a:gridCol w="1744560"/>
                <a:gridCol w="1746360"/>
                <a:gridCol w="188928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 Ze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ved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403280" y="3933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83664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4508640"/>
          <a:ext cx="7274160" cy="21668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729080"/>
                <a:gridCol w="194472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an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l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broj država koje su uključene na listu stalno poveć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i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I: Bertelsman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U: Economist 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: Freedom House, Nations in Tran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: Merchant Internation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F: Global Competitiveness Report of the 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60" indent="-399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: Global Insight, ranije World Markets Research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1065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399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557360"/>
          <a:ext cx="8101080" cy="439560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ora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anici uglavnom potiču iz razvijenih zemalj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I,EIU,GI,MI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čnjaci angažovani od strane ban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institucij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rezidenat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Kancelarija</cp:lastModifiedBy>
  <cp:lastPrinted>2001-02-20T16:28:36Z</cp:lastPrinted>
  <dcterms:modified xsi:type="dcterms:W3CDTF">2010-07-19T12:47:52Z</dcterms:modified>
  <cp:revision>18</cp:revision>
  <dc:subject/>
  <dc:title>Slide 1</dc:title>
</cp:coreProperties>
</file>